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583-641F-403C-BA24-2DC44BFC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891-5B7A-4347-9281-D0633172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5D7-CDED-4BB0-9EAA-312813C1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34B-44C6-4F7C-8545-7EBE8ADC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FF42-004C-433A-8F95-0D9ACEF6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AD20-CE0E-4769-93AC-506ACEC8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8039-55E5-4D4A-8A30-6E9A59F4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23AD-F724-443A-BBB4-A32CC1E9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763B-4D6E-4C3F-85D1-69BFBEC4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D036-1885-46C8-A1DB-4B57833D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BD71-84F6-46A5-A6E8-3FA8F214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6FB-2795-4AFE-8B25-B0EBFF5A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2E59-9780-47F3-B8F1-604E7B4D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16C8-C2D9-42B3-8C70-EFDE08F5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65C1-45D0-4C97-BE05-8CB647E9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0AE4-225A-4CCE-B980-336C6B0A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83DC-AA36-4D7C-AC1E-89EA3204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38A-2EED-4AFF-9595-12E3F26B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B47-6815-4FC6-AF47-AE863868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353-00BE-4192-9513-38ED7CCD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F21-DB40-46EB-ABF4-2DED7D55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D5D-64B5-490F-BDAF-F2407B65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68C-9DF4-4AA9-BF2D-F3E46F5E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060-67F1-42D4-A82A-E0A79F6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BE47-5298-4602-9659-FF0657BC6404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6574-B8BD-44EC-8F39-FC7AFF70BD8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TO EFFECTIVE NOTE T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Lecture Not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breviate the following lines so they still make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8928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when people stopped being nomadic.  With the beginning of widespread farming, people began to live in permanent villages, towns and 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by a combination of many factors, including the creation of a complex government and religion, a working economy, the development of art and technology and the creation of a stratified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 played an essential role in the development of societies, as natural features often determined where people set up permanent societie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457200"/>
            <a:ext cx="6019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175248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4864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60880" y="1889280"/>
            <a:ext cx="534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settlements the start of civil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need: gov’t, religion, economy, art, tech.,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. very imp. in creating civi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summarize the previous no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nswer: Civilizations started when people stopped traveling and created permanent settlements and complex social and governmental institutions.  Geography played a key role in how civilizations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C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8892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I know if what the teacher says is importan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on or stressed in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gets louder/softer or faster/s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on the board or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be on the te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 (hand/arm mov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importa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rnell No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of taking notes that helps students understand material by putting it in thei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organiz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help students study more eff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for students to control their learning by understanding, thinking about and evaluating what they’v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teps of Cornell note ta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Identify importan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Determine relationships among items and generate questions that represent thes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Summarize the information in you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your name, date, class and period in the upper right hand corner (see ab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topic of the notes (ex. Ancient China, Islam, etc.) in the top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304920"/>
            <a:ext cx="9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05120"/>
            <a:ext cx="53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horizontal line about five lines up from the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vertical line down the page about one third of the distance from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889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questions (after completion of no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words an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dates/people/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/stress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/brainstorming written on board/overhead proj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rom textbook/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nd 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88928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do the achievements of early Chinese civilization say about what they felt was importa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Chinese ideas  about government impact their civiliz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geography help shape early Chinese civilizatio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s: silk making, the first book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 Ching, The Book of Song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: Feudal system, stratified society, dynastic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: isolated from other civilizations; led them to believe that China was the center of the earth and source of civilization (ex. “Middle Kingdom.”)  Development of flood control which led to strong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hat about the bottom of my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16002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33412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belongs in the bottom spac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review notes and write a summary in your own words about the main ide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for the teacher/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odles: down here they won’t get in the way of the important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41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hinese created one of the world’s earliest and most advanced civilizations.  Shaped by their ideas of government and diverse geography, they created a society that would have a large impact on other world cul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pful hints for straight A no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0880" y="1889280"/>
            <a:ext cx="534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brev., para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ymbols (arrows, circles, underlining) or highlighting to emphasize important ideas and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lines between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24 hours, review notes and develop additional study questions on the lef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9:30:32Z</dcterms:created>
  <dc:creator>Cedar Cove Productions</dc:creator>
  <dc:description/>
  <dc:language>en-US</dc:language>
  <cp:lastModifiedBy>KOLTOV</cp:lastModifiedBy>
  <dcterms:modified xsi:type="dcterms:W3CDTF">2007-09-04T19:00:31Z</dcterms:modified>
  <cp:revision>6</cp:revision>
  <dc:subject/>
  <dc:title>No Slide Title</dc:title>
</cp:coreProperties>
</file>